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4023-2F8B-4CE0-BB0F-6D8E18A5C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0612-210E-4025-8904-07816E26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D074-A9FF-4F81-99B1-DB88E35C5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7CD7-FE23-4934-9DB0-E03A2A95A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A7EA-D107-4145-88D1-97A75EFB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E92A-E20A-41E5-8B4F-C45C9990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B595-0E4C-4C12-BD31-C25DC7B5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A61A-31C4-4AA6-9A5A-92DBA5C3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CE33-94D6-4652-91CF-05D3A7A5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ABE4-C311-4C95-BF53-4FE66E23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7762-3E19-4ABC-BB31-7214C7D0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275D-8850-407F-AD96-F30447FB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863D-EC24-41F1-ABBA-954836FB8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same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dimension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7-10-01T01:42:19Z</dcterms:modified>
  <cp:revision>1</cp:revision>
  <dc:subject/>
  <dc:title>Dimension aggregation</dc:title>
</cp:coreProperties>
</file>